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68A5-FB87-4475-B213-E7E77431C7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88E-0123-49D1-B47F-C2F66C51A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885-E398-4DC1-8F49-76B0B8A0F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046-59B0-4D1B-9794-591076CCC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CEE-1A0B-4E59-8ACB-264D5429A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AABC-4380-4E9A-83F9-602B9F55E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FC1-77A2-433B-AD49-A2BB87F71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6D9-B74C-4141-BD5D-2A4AF9F98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892-DBCF-4A2A-A332-41320CF47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5AB0-C722-468B-82DF-9264F2F98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6D5-860E-4BF9-8E13-483783FE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9FAA-3637-4175-BF4D-B33FBDF78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AA6-6596-41EE-AD50-CAC3D8730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F8C-28C0-4F89-BCA1-30D3BA338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7686-C0E0-44BD-965A-F266CE06F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21A-8EF8-4248-B6B3-D45808A0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7BD-7F2E-4DC6-8204-8324BCD56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E28-6D2B-4371-8100-79B403991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219-3711-4810-8320-01042AE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E93-67CC-4B36-8EDA-38C2BB3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65B-A914-4C27-9403-D9817D16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81B-F1C2-47FC-90FA-F84DF310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EF3-20F6-4979-91CB-28F7249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163-7A0B-4953-B626-139F84E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135-9C57-414A-A8DB-8C3E091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B3C-5795-411B-8298-CF4EC282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D5B-359A-4F71-95FD-C43C4D6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30A-DDD5-494F-A2F8-486A0DB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294-6CAD-465C-9D00-BC6E996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595-10B5-4C63-B1DF-96E4BAD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6F8-225B-424B-A3E9-818843B85F3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66640" cy="817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7" descr=""/>
          <p:cNvPicPr/>
          <p:nvPr/>
        </p:nvPicPr>
        <p:blipFill>
          <a:blip r:embed="rId2"/>
          <a:stretch/>
        </p:blipFill>
        <p:spPr>
          <a:xfrm>
            <a:off x="1596960" y="5237280"/>
            <a:ext cx="5870520" cy="76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"/>
          <p:cNvSpPr/>
          <p:nvPr/>
        </p:nvSpPr>
        <p:spPr>
          <a:xfrm>
            <a:off x="2362320" y="3657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1"/>
          <p:cNvSpPr/>
          <p:nvPr/>
        </p:nvSpPr>
        <p:spPr>
          <a:xfrm>
            <a:off x="3809880" y="4038480"/>
            <a:ext cx="838440" cy="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5105520" y="36576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se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ame 27"/>
          <p:cNvSpPr/>
          <p:nvPr/>
        </p:nvSpPr>
        <p:spPr>
          <a:xfrm>
            <a:off x="1371600" y="3505320"/>
            <a:ext cx="2209680" cy="1143000"/>
          </a:xfrm>
          <a:custGeom>
            <a:avLst/>
            <a:gdLst/>
            <a:ahLst/>
            <a:rect l="l" t="t" r="r" b="b"/>
            <a:pathLst>
              <a:path w="2209800" h="1143000">
                <a:moveTo>
                  <a:pt x="0" y="0"/>
                </a:moveTo>
                <a:lnTo>
                  <a:pt x="2209800" y="0"/>
                </a:lnTo>
                <a:lnTo>
                  <a:pt x="2209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106679" y="1039879"/>
                </a:lnTo>
                <a:lnTo>
                  <a:pt x="2106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ame 28"/>
          <p:cNvSpPr/>
          <p:nvPr/>
        </p:nvSpPr>
        <p:spPr>
          <a:xfrm>
            <a:off x="4952880" y="3505320"/>
            <a:ext cx="2590920" cy="1143000"/>
          </a:xfrm>
          <a:custGeom>
            <a:avLst/>
            <a:gdLst/>
            <a:ahLst/>
            <a:rect l="l" t="t" r="r" b="b"/>
            <a:pathLst>
              <a:path w="2590800" h="1143000">
                <a:moveTo>
                  <a:pt x="0" y="0"/>
                </a:moveTo>
                <a:lnTo>
                  <a:pt x="2590800" y="0"/>
                </a:lnTo>
                <a:lnTo>
                  <a:pt x="2590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487679" y="1039879"/>
                </a:lnTo>
                <a:lnTo>
                  <a:pt x="2487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ame 9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8956" y="148956"/>
                </a:moveTo>
                <a:lnTo>
                  <a:pt x="148956" y="6709044"/>
                </a:lnTo>
                <a:lnTo>
                  <a:pt x="8995044" y="6709044"/>
                </a:lnTo>
                <a:lnTo>
                  <a:pt x="8995044" y="148956"/>
                </a:lnTo>
                <a:lnTo>
                  <a:pt x="148956" y="148956"/>
                </a:lnTo>
                <a:close/>
              </a:path>
            </a:pathLst>
          </a:custGeom>
          <a:solidFill>
            <a:srgbClr val="c000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90720" y="685800"/>
            <a:ext cx="7162560" cy="2288520"/>
          </a:xfrm>
          <a:prstGeom prst="rect">
            <a:avLst/>
          </a:prstGeom>
          <a:solidFill>
            <a:srgbClr val="ffff00"/>
          </a:solidFill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7"/>
          <p:cNvSpPr/>
          <p:nvPr/>
        </p:nvSpPr>
        <p:spPr>
          <a:xfrm>
            <a:off x="2971800" y="1600200"/>
            <a:ext cx="4724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6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nen en camin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al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sentimo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30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2895480" y="1600200"/>
            <a:ext cx="4648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nf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trist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30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2895480" y="1600200"/>
            <a:ext cx="472464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6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chas a trabaja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ivirt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egun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2" dur="3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7"/>
          <p:cNvSpPr/>
          <p:nvPr/>
        </p:nvSpPr>
        <p:spPr>
          <a:xfrm>
            <a:off x="3048120" y="1600200"/>
            <a:ext cx="4419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4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ep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30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7"/>
          <p:cNvSpPr/>
          <p:nvPr/>
        </p:nvSpPr>
        <p:spPr>
          <a:xfrm>
            <a:off x="3200400" y="1600200"/>
            <a:ext cx="3581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sentái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30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3124080" y="1600200"/>
            <a:ext cx="36576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va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desp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0" dur="30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3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7"/>
          <p:cNvSpPr/>
          <p:nvPr/>
        </p:nvSpPr>
        <p:spPr>
          <a:xfrm>
            <a:off x="3352680" y="1600200"/>
            <a:ext cx="34290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cep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8"/>
          <a:stretch/>
        </p:blipFill>
        <p:spPr>
          <a:xfrm>
            <a:off x="1752480" y="228600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6" dur="30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6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amor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preg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8"/>
          <a:stretch/>
        </p:blipFill>
        <p:spPr>
          <a:xfrm>
            <a:off x="1752480" y="220968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2" dur="30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80880" y="144792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-Up and P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great activity to get students writing  and practicing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activity by reviewing the verb forms that students will use 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ubject pronoun/picture slide so that students are familiar with the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activity with a single click on slide that will reveal three number combinations. The first number is the subject and the second number is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then have 30 seconds (the triangle disappears to show time passing) to write the three subjects with the correct form of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30 seconds have passed FIN appears on the screen and the numbers dis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dditional click shows the three subjects with the correct verb forms so that students can check their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6232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143000" y="1905120"/>
            <a:ext cx="33526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ertarse 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nerse en cam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v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os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ñ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amo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ristec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952880" y="1905120"/>
            <a:ext cx="27432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m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uch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ferm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ir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eg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gu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190512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so de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38080" y="2666880"/>
            <a:ext cx="3733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Pronombres Reflex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o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ú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l/Ella/Usted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llos/Ellas/Ustede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24280" y="2666880"/>
            <a:ext cx="39625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Yo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ú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Él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Nosotro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Vosotros 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Ustede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uestan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288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725400" cy="9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6937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6324480" y="1600200"/>
            <a:ext cx="709560" cy="102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3657600" y="1523880"/>
            <a:ext cx="67644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113184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121140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993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12193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4197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5562720" y="4419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7467480" y="2743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76920" y="2819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514600" y="4343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219320" y="289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533520" y="560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Los Su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1600200" y="5257800"/>
            <a:ext cx="993600" cy="117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10"/>
          <a:stretch/>
        </p:blipFill>
        <p:spPr>
          <a:xfrm>
            <a:off x="4340160" y="5257800"/>
            <a:ext cx="127944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4"/>
          <p:cNvSpPr/>
          <p:nvPr/>
        </p:nvSpPr>
        <p:spPr>
          <a:xfrm>
            <a:off x="2590920" y="5410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5562720" y="5410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ame 2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49" descr=""/>
          <p:cNvPicPr/>
          <p:nvPr/>
        </p:nvPicPr>
        <p:blipFill>
          <a:blip r:embed="rId1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0" descr=""/>
          <p:cNvPicPr/>
          <p:nvPr/>
        </p:nvPicPr>
        <p:blipFill>
          <a:blip r:embed="rId2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7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espertamo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b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Extract 59"/>
          <p:cNvSpPr/>
          <p:nvPr/>
        </p:nvSpPr>
        <p:spPr>
          <a:xfrm>
            <a:off x="7010280" y="15238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3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762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2" dur="30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3505320" y="1600200"/>
            <a:ext cx="3276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ame 20"/>
          <p:cNvSpPr/>
          <p:nvPr/>
        </p:nvSpPr>
        <p:spPr>
          <a:xfrm>
            <a:off x="0" y="7632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ient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reí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3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2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enamor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 la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4" dur="30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1:33:14Z</dcterms:created>
  <dc:creator>Jcabral</dc:creator>
  <dc:description/>
  <dc:language>en-US</dc:language>
  <cp:lastModifiedBy>Yasmine Allen</cp:lastModifiedBy>
  <dcterms:modified xsi:type="dcterms:W3CDTF">2012-09-02T16:39:42Z</dcterms:modified>
  <cp:revision>87</cp:revision>
  <dc:subject/>
  <dc:title>Slide 1</dc:title>
</cp:coreProperties>
</file>